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82C5-8A92-4845-9772-FCDF904A2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7E33-256F-47E9-95B2-BF4FCF15C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20E-71D0-4948-B576-CD3D649B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080-1C4D-43E2-BC2D-06C72C52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D37-956E-4882-B109-1C8B900F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DE6-7EDE-454E-9720-324FC38C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CB0-F668-40CC-973C-0BD37CB2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11E-D16C-4ED2-838E-3967D92A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2B9-0AB5-48BB-B818-1637C18E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4A7-A0CB-4B73-A4E5-519B7D4E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1AB-E8CC-460E-9D79-09FBFB3C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CBA-BC7D-4171-B63F-B688F240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737-86A4-46B1-8474-F479390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861-B5A3-40B0-A510-CE88CED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4E08-C969-48E6-B269-9B0FDB8D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4_04t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4 Per capita energy consumption is highest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4 Per capita energy consumption is highest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4_06t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5 Nuclear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a high cost relative to other energ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a renew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yet to have significant 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as first produced in the late nineteen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5 Nuclear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s a high cost relative to other energ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a renew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yet to have significant 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as first produced in the late nineteen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6 Of the following regions or countries, which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source of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6 Of the following regions or countries, which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source of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4_12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7 The temperature of the atmosphere wa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1 The greatest proportion of energy use in the United States in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trole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7 The temperature of the atmosphere wa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4_13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8 Acid precipit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global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prevalent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related to prevailing w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ost common near industri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8 Acid precipit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global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prevalent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related to prevailing w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ost common near industri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4_14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9 Which type of renewable energy produces the most air pol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clear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ydroelect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9 Which type of renewable energy produces the most air pol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clear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ydroelect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10 Biodiversity in the tropi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creased by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function of numbers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function of distribution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creasing due to species exti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hifting cul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10 Biodiversity in the tropi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creased by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function of numbers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function of distribution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creasing due to species exti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hifting cul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1 The greatest proportion of energy use in the United States in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Petro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4_01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2 Fossil fu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sentially infinite in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tributed relatively evenly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ource of renew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t a significant source of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2 Fossil fu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sentially infinite in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tributed relatively evenly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ource of renew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t a significant source of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4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3 Which country or region produces the smallest amount of petrole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3 Which country or region produces the smallest amount of petrole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25:56Z</dcterms:modified>
  <cp:revision>79</cp:revision>
  <dc:subject/>
  <dc:title>CRS Chapter 4</dc:title>
</cp:coreProperties>
</file>